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6.gif" ContentType="image/gif"/>
  <Override PartName="/ppt/media/image10.jpeg" ContentType="image/jpeg"/>
  <Override PartName="/ppt/media/image7.gif" ContentType="image/gif"/>
  <Override PartName="/ppt/media/image12.gif" ContentType="image/gif"/>
  <Override PartName="/ppt/media/image8.gif" ContentType="image/gif"/>
  <Override PartName="/ppt/media/image9.gif" ContentType="image/gif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EA65-4954-442B-BE5C-931CF835A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A590-DDE1-4621-8243-BE2AFCEC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D776-3E28-4CE5-8F69-E39F4ED16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36E8-A1DF-4AD8-99AB-308AAB8C1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2060-0C01-4964-BCEF-15DF0926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F5C7-C2C5-45F3-9512-D7624F95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93CC-3F04-4FD3-9CEF-6166366C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913F-9371-4AE1-A4AB-DA233B05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D49B-4F73-42C2-9705-3B894C01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577A-C781-4947-98EA-A61E8154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B75A-504F-44B9-A6D0-A5FC4A43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AEAE-F29E-44DD-80A4-7E9467C0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0244-D551-4BC0-853F-31040FB71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nkh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A building in camp where a group of people slee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Bunk 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A 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 Break: Bunk-Base Word: h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629400" y="4114800"/>
            <a:ext cx="1535040" cy="1981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791320" y="1981080"/>
            <a:ext cx="29224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d (of woo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A measure for a stack of w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l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le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 Break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621400" y="1981080"/>
            <a:ext cx="2684520" cy="1981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800600" y="4191120"/>
            <a:ext cx="3657600" cy="24192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75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e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Of great size, or deg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little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 Break: im-men-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95880" y="2971800"/>
            <a:ext cx="1000080" cy="1047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857920" y="4610160"/>
            <a:ext cx="2066760" cy="990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0047ff"/>
            </a:gs>
            <a:gs pos="100000">
              <a:srgbClr val="00008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dsca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A stretch of 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 Break: land-sc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705720" y="1676520"/>
            <a:ext cx="2116080" cy="2286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477120" y="4114800"/>
            <a:ext cx="243828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umberja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31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A person who chop down tre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lon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: teac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 Break: lumber-jac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lun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800600" y="1600200"/>
            <a:ext cx="3657600" cy="2468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943600" y="4724280"/>
            <a:ext cx="2133720" cy="1878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e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of great size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4</cp:lastModifiedBy>
  <dcterms:modified xsi:type="dcterms:W3CDTF">2009-01-30T18:29:40Z</dcterms:modified>
  <cp:revision>8</cp:revision>
  <dc:subject/>
  <dc:title>PowerPoint Presentation</dc:title>
</cp:coreProperties>
</file>